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0EC03-4D77-4EC9-8661-D16A31F3F6B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D08AE-7A41-4B81-91ED-814CC04E9BC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46EF8-52B6-4D36-A727-3B8EADE00D3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1BC-3722-48F7-A580-7CE67B4C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867-11BD-4273-BD81-EEB202D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C86-F1DA-41B0-A943-AB29CD1A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D53-37DE-41F3-8446-13365CF0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D23-DAD1-44C6-95CC-D63DEEA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DF2-00F6-4E1D-9EEC-C44B184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2B2-4CB9-4714-97C3-6A273922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73D-ED9F-4CE9-BF93-3806C44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6537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AB2-68F9-4C11-A644-85917B5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FA3-63D7-477E-AECF-A47E15E7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AEF-E607-4A9C-8AE8-5D26757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E77-E5B1-4916-8E6E-CAA8349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653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3280"/>
            <a:ext cx="2889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1BA953-F322-4BCA-B66A-30197993780F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Aanpassingen i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model en Release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Peter Klav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oogde aanpass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Toetsingskader/criteria t.b.v. toetsing op familieaspecten (Hen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Opsplitsing van sectormodellen in kern en koppelvlakspecificaties (Maarten/Hen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Voorwaarden voor gebruik faciliteiten (o.a. forum / gedeeld beh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Afhankelijkheden tussen StUF en informatiemod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	</a:t>
            </a: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o.a. Aansluiting op RSGB/RGBZ in UML/Enterprise Ar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  <a:ea typeface="Lucida Sans Unicode"/>
              </a:rPr>
              <a:t>Naamswijziging OSB in Digikopp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Update StUF familieplaat / protocolbindingen on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Errataprocedure incidentbeheer (Joë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da5c21"/>
                </a:solidFill>
                <a:latin typeface="Calibri"/>
              </a:rPr>
              <a:t>Wijzigingen die voortkomen uit de goedkeuring en vaststelling van het BAG-WOZ koppelvlak (Jan/Henri/Maart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2000" spc="-1" strike="noStrike">
                <a:solidFill>
                  <a:srgbClr val="da5c21"/>
                </a:solidFill>
                <a:latin typeface="Calibri"/>
              </a:rPr>
              <a:t>&lt;andere onderwerpen die meegenomen moeten worden?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10-27T10:43:57Z</dcterms:modified>
  <cp:revision>6</cp:revision>
  <dc:subject/>
  <dc:title>Werkplan StUF 2010</dc:title>
</cp:coreProperties>
</file>